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3D05-CA90-47A1-8022-1E27106FFFA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BB63-D4D1-4E7A-9659-58EA691D3409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671-B6FB-4AEA-8CA7-01671B76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164-BDD9-4B06-A395-3AF6D19D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E0F4-C576-4526-8CB7-93DDD691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934-49A1-4326-89BE-DB12D294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1364-D9ED-41F0-9389-D15E3AED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39E1-D1E9-4B29-B929-54719A8E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FD84-BE31-4365-9F94-CB029EF6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C390-277B-46F2-A958-20D34389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C4D0-1E29-4A31-A35C-27551FF0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62AE-87FC-4732-B301-D22600EB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BA78-4901-4452-B47D-97A75BD1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41F-6A30-4BBB-A210-810F6034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E112-25DE-4186-A910-BA66786D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2C96-F50F-4DEF-949F-7DD6FF65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CB88-279C-427F-8C19-96E4367C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99D5-0A32-4E67-A937-E71C83B2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581F-105A-4009-8594-F0B62696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B39-3411-4FB3-B0A2-8C8A3B4B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D56-0007-4CBB-AEDD-430471B7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8803-270F-49C0-B993-92DAAE2D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716-3503-4F6A-87A3-DA81997D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338-AF16-41DD-B292-E4C74E66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A3A-CB39-4151-B403-927A318B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039-E8F5-49BA-8D51-C9E9115F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472F-A2F7-478F-9E21-FDDE925A5DF1}" type="datetime">
              <a:rPr b="0" lang="pl-PL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30EF-12DB-499A-869B-4A10AAA6A0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D493-078A-4F78-984F-19FC9A8BBAAA}" type="datetime">
              <a:rPr b="0" lang="pl-PL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7640" y="5732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BCF8-5337-4EB3-8AA0-0866CD066E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1880" y="142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worząc plan rozwoju należy pamiętać o zastosowaniu się d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ytuł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  <a:ea typeface="Arial"/>
              </a:rPr>
              <a:t>Zasady planowani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1"/>
          <p:cNvSpPr/>
          <p:nvPr/>
        </p:nvSpPr>
        <p:spPr>
          <a:xfrm>
            <a:off x="611280" y="2570040"/>
            <a:ext cx="720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sada wariantowośc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należy stworzyć wariant pesymistyczny i optymistyczny plan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606600" y="3479760"/>
            <a:ext cx="7205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sada koncentracj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należy wyznaczyć priorytetowe działania do realizacji na danym etapi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3"/>
          <p:cNvSpPr/>
          <p:nvPr/>
        </p:nvSpPr>
        <p:spPr>
          <a:xfrm>
            <a:off x="600120" y="4508640"/>
            <a:ext cx="7211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sada racjonalnośc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należy planować tak, aby maksymalizować efektywność przedsięwzię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Wprowadzen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Forma zaliczenia, sytuacja wyjściowa, zasady planowa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Forma zaliczen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pl-PL" sz="3200" spc="-1" strike="noStrike">
                <a:solidFill>
                  <a:srgbClr val="ff0000"/>
                </a:solidFill>
                <a:latin typeface="Calibri"/>
              </a:rPr>
              <a:t>DO WYPEŁNIENIA PRZEZ NAUCZYCIELA PRZED ROZPOCZĘCIEM ZAJĘĆ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nik z gry (2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Ćwiczenia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40%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ace domowe (2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ezentacja końcowa (2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Przebieg zaję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Diagram 5" descr=""/>
          <p:cNvPicPr/>
          <p:nvPr/>
        </p:nvPicPr>
        <p:blipFill>
          <a:blip r:embed="rId1"/>
          <a:stretch/>
        </p:blipFill>
        <p:spPr>
          <a:xfrm>
            <a:off x="731880" y="1682640"/>
            <a:ext cx="793116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250920" y="1916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  <a:ea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250920" y="3284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  <a:ea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250920" y="4581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  <a:ea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Przebieg gr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484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rządzanie hotelem przez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4 lat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ałaln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16 rund decyzyjnych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- każda runda to jeden wirtualny kwartał działalności hotel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zrost liczby decyzji wraz z rozwojem biznes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darzenia losowe wpływające na działalność przedsiębiorstwa uczniows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miany zachodzące w bliskim i dalekim otoczeniu firm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D:\Data\awinniczuk\AppData\Local\Microsoft\Windows\Temporary Internet Files\Content.IE5\MF5X68BG\MC900432635[1].png"/>
          <p:cNvPicPr/>
          <p:nvPr/>
        </p:nvPicPr>
        <p:blipFill>
          <a:blip r:embed="rId1"/>
          <a:stretch/>
        </p:blipFill>
        <p:spPr>
          <a:xfrm>
            <a:off x="3995640" y="4952880"/>
            <a:ext cx="135432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Sytuacja wyjściowa g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44600" y="160812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poczęcie działalności gospodarczej przy wsparciu funduszy z Unii Europejski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sokość dofinansowania z Unii Europejskiej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– 75 000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ł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na kwartał przez pierwszy rok działaln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apitał własny w wysokośc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20 000 zł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agon 3"/>
          <p:cNvSpPr/>
          <p:nvPr/>
        </p:nvSpPr>
        <p:spPr>
          <a:xfrm>
            <a:off x="1465200" y="5013360"/>
            <a:ext cx="1871640" cy="4316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0" y="21600"/>
                </a:lnTo>
                <a:lnTo>
                  <a:pt x="2492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75 000 z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agon 4"/>
          <p:cNvSpPr/>
          <p:nvPr/>
        </p:nvSpPr>
        <p:spPr>
          <a:xfrm>
            <a:off x="3351240" y="5013360"/>
            <a:ext cx="1871640" cy="4316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0" y="21600"/>
                </a:lnTo>
                <a:lnTo>
                  <a:pt x="2492" y="10800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75 000 z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agon 5"/>
          <p:cNvSpPr/>
          <p:nvPr/>
        </p:nvSpPr>
        <p:spPr>
          <a:xfrm>
            <a:off x="5248440" y="5013360"/>
            <a:ext cx="1871640" cy="4316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0" y="21600"/>
                </a:lnTo>
                <a:lnTo>
                  <a:pt x="2492" y="10800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75 000 z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agon 6"/>
          <p:cNvSpPr/>
          <p:nvPr/>
        </p:nvSpPr>
        <p:spPr>
          <a:xfrm>
            <a:off x="7151760" y="5024520"/>
            <a:ext cx="1871640" cy="4316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0" y="21600"/>
                </a:lnTo>
                <a:lnTo>
                  <a:pt x="2492" y="10800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75 000 z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chemat blokowy: decyzja 8"/>
          <p:cNvSpPr/>
          <p:nvPr/>
        </p:nvSpPr>
        <p:spPr>
          <a:xfrm>
            <a:off x="14400" y="4879800"/>
            <a:ext cx="1547640" cy="721080"/>
          </a:xfrm>
          <a:prstGeom prst="flowChartDecision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20 000 z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9"/>
          <p:cNvSpPr/>
          <p:nvPr/>
        </p:nvSpPr>
        <p:spPr>
          <a:xfrm>
            <a:off x="108000" y="5764320"/>
            <a:ext cx="87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Środki własne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    Q1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    Q2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     Q3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Q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raz 4" descr=""/>
          <p:cNvPicPr/>
          <p:nvPr/>
        </p:nvPicPr>
        <p:blipFill>
          <a:blip r:embed="rId1"/>
          <a:stretch/>
        </p:blipFill>
        <p:spPr>
          <a:xfrm>
            <a:off x="3273480" y="3139920"/>
            <a:ext cx="5413320" cy="3052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Sytuacja wyjściowa g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ziałalność gospodarcza będzie prowadzona na terenie miasta 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Pekunia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, które istnieje w kraju podobnym do Polsk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zczegółow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informacje o Pekunii znajdują się w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nstrukcji dla uczn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rostokąt 5" descr=""/>
          <p:cNvPicPr/>
          <p:nvPr/>
        </p:nvPicPr>
        <p:blipFill>
          <a:blip r:embed="rId2"/>
          <a:stretch/>
        </p:blipFill>
        <p:spPr>
          <a:xfrm>
            <a:off x="2193840" y="5273640"/>
            <a:ext cx="251784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Etapy realizacj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1413000"/>
            <a:ext cx="86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alizację każdego biznesu warto rozpisać na kolejne etap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399960" y="1916280"/>
            <a:ext cx="799308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Stworzenie marki hotelu i określenie cel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Diagnoza i analiza sytua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Planowanie działalności przedsiębiorstw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Opracowanie harmonogramu działa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Przydzielenie zadań członkom zespoł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Przygotowanie budże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Realizacja plan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Analiza wyni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Ewentualna modyfikacja plan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1880" y="142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worząc plan rozwoju należy pamiętać o zastosowaniu się d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ytuł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  <a:ea typeface="Arial"/>
              </a:rPr>
              <a:t>Zasady planowani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1"/>
          <p:cNvSpPr/>
          <p:nvPr/>
        </p:nvSpPr>
        <p:spPr>
          <a:xfrm>
            <a:off x="539640" y="3141720"/>
            <a:ext cx="8337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sady realnośc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zaplanowane działania powinny być możliwe do wykonan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2"/>
          <p:cNvSpPr/>
          <p:nvPr/>
        </p:nvSpPr>
        <p:spPr>
          <a:xfrm>
            <a:off x="561960" y="3975120"/>
            <a:ext cx="8280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sady elastycznośc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musi istnieć możliwość dostosowania planu do zmieniających się okolicznośc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Jakubowski Michał</cp:lastModifiedBy>
  <dcterms:modified xsi:type="dcterms:W3CDTF">2014-08-10T19:26:50Z</dcterms:modified>
  <cp:revision>40</cp:revision>
  <dc:subject/>
  <dc:title>Slajd 1</dc:title>
</cp:coreProperties>
</file>